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CAB6-6150-4F7D-8385-E5171A6E2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A78E-06D1-46B1-957B-115ED50B4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B32A-6625-4E9B-BE29-5593B0F37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E4AB-F59C-4D4B-8DBD-787A8E3CA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2EE5-212D-40A5-9E37-B53C192D3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FAFE-8843-4F89-AF87-918445D55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BC8A-7630-498B-98E0-5A50BB5D9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7B8D-BF2B-4496-93FC-4DF029C63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F18C-2FD5-4D78-9A8F-C3C4F70C8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65A7-DAD9-49EC-89CE-1BF7EEDF1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4455-51BE-4127-BDE5-227705F9E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BC31-7301-4BC6-AB58-EAA528092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.2-</a:t>
            </a:r>
            <a:fld id="{A2C2BEEE-AB94-43B0-B7C4-D63E28F70A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8264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other compound tenses you have learned, the future perfect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futuro perfec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formed with a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past participle. It is used to talk about what will have happened by some future point i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38280"/>
            <a:ext cx="1676520" cy="5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BD43-0D01-4014-B1C0-1E479BE97E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976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other compound tenses, the past participle never varies in the future perfect; it always end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400" y="1600200"/>
            <a:ext cx="8069400" cy="32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99C2-74BA-45FC-96E2-AF29258C7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1360" y="1938240"/>
            <a:ext cx="7721280" cy="21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4F92-C593-4ABA-A9FE-68F34A0AAA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ras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 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tro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 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re used with the future perfect to talk about what will have happened by some future point i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3741840"/>
            <a:ext cx="7315200" cy="12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33C0-B46C-4213-A54B-C4CE107E56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9560" y="15145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28760" y="2179800"/>
          <a:ext cx="8286480" cy="4135320"/>
        </p:xfrm>
        <a:graphic>
          <a:graphicData uri="http://schemas.openxmlformats.org/drawingml/2006/table">
            <a:tbl>
              <a:tblPr/>
              <a:tblGrid>
                <a:gridCol w="8286480"/>
              </a:tblGrid>
              <a:tr h="7318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a forma apropiada del futuro perfecto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4160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sábado, nosotros _________________ (obtener) el diner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 ______ (terminar) el trabajo para cuando lleguen mis amig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ia ______ (hacer) todos los planes para el próximo fin de sem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cinco de junio, ustedes ______ (llegar) a Quit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sa fecha, Ernesto y tú ______ (recibir) muchas ofert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l ocho de octubre, nosotros ya ______ (llegar) a Colomb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entonces, yo ______ (volver) de la República Dominic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cuando yo te llame, ¿tú ______ (decidir) lo que vamos a hace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2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las nueve, mi hermana ______ (salir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264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347760"/>
                          <a:tab algn="l" pos="2743200"/>
                          <a:tab algn="l" pos="51958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las ocho, tú y yo ______ (limpiar) el piso.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94240" y="302112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ff"/>
                </a:solidFill>
                <a:latin typeface="Comic Sans MS"/>
              </a:rPr>
              <a:t>habremos ob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A442-0A25-4955-B086-D00AA27B0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9:01:39Z</dcterms:modified>
  <cp:revision>74</cp:revision>
  <dc:subject/>
  <dc:title>PowerPoint Presentation</dc:title>
</cp:coreProperties>
</file>